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ct" ContentType="image/x-pict"/>
  <Override PartName="/ppt/media/image6.png" ContentType="image/png"/>
  <Override PartName="/ppt/media/image11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9AC-9CB8-4891-A760-E4E899DF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347-D6A0-4447-B6FB-12CA7654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FCD-F561-4DB2-8025-8B786400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0FE-E4F3-4B27-AA17-B8614F43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0E68-416C-4F38-B75D-84ABD676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8FDF-F933-4D7F-905A-60E44844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A583-8768-439A-9AE4-BA384D25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60C7-B426-4679-8944-49B9C47E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380D-CE40-4B81-A525-2A060ADE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7AEF-CAD5-444B-AAEF-52C5DC6C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3DB2-5EF4-44B2-B93B-BCB9E6E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106-4DBB-4F08-9667-5C6C5F09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D30B-64CF-4530-830B-0E78E1CA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C730-6417-43EF-9E51-9445B79F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35D7-4C53-49AA-B48F-28FA37DD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3857-DB18-4AC5-A75F-A740C91F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1021-0051-4657-A300-BF2405E1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AE2-6B6D-427F-B049-1C92C0A4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BEA-5A7D-43BE-AE0A-B9086208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09D-0AC2-41FA-92AE-80FC75C9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806-0BFE-4AC7-94E9-C4E28E19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E36-2F69-4A6B-8826-6EB511CF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C43-64E6-4573-B128-3658A984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8EE-FBD0-4D2E-986B-79325C3F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E4AB-C20A-4F9A-B5EA-77D2082F3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1DA6-A88F-48A6-83F6-02ABCE337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idPix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lide Show: Using Idea Machine Templat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429000" y="4397400"/>
            <a:ext cx="24033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ing Saved Pic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y Picture window will open up on the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the name of your first sl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OPEN butt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d all your 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hese steps for each slide that you want to ad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 are finished adding slides you can watch your show by clicking on the green PLAY i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change the time between slides by choosing the TRANSITION i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ting Op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int your slide show Go to FILE in the menu 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how you want to print your bookl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lide will be saved to the My Slideshow f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save slide shows to a flash drive to create a class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Shows can also be made with all original draw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en KidPix Templ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the Idea Machine icon in the upper left hand co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 Click to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2895480"/>
            <a:ext cx="914400" cy="228600"/>
          </a:xfrm>
          <a:custGeom>
            <a:avLst/>
            <a:gdLst>
              <a:gd name="textAreaLeft" fmla="*/ 0 w 914400"/>
              <a:gd name="textAreaRight" fmla="*/ 914760 w 9144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lders and Subfold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the window select the folder area you want to expl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use “All About Me” then the subfolder “Thankfu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projects to look at under these folders and subf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oosing your Templ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you select your folder and subfolder category you will see template op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the template you would like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00400" y="4114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raw on your templ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late you chose will open up into the blank page spot on your eas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draw and paint tools to color the pic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BS to add your T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tickers to person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your 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are finish make sure you save the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the FILE menu select Save as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18288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e to the My Pictures fol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you are in the My Pictures f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your tem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Save button at the bottom right of the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these steps to create all the pictures for your slide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297180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5257800"/>
            <a:ext cx="152280" cy="4572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lide Sh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ce you have completed all the slides for your show you are ready to st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the Slide Show icon in the lower right corner of the screen (it looks like a film cli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124080" y="4952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ilding the Sho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lide show builder will app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the folder icon underneath the first slide to add your saved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2571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3000" y="35053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c88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9:29:49Z</dcterms:created>
  <dc:creator>Lupin Hill</dc:creator>
  <dc:description/>
  <dc:language>en-US</dc:language>
  <cp:lastModifiedBy>LVUSD LVUSD</cp:lastModifiedBy>
  <dcterms:modified xsi:type="dcterms:W3CDTF">2010-10-25T21:36:54Z</dcterms:modified>
  <cp:revision>2</cp:revision>
  <dc:subject/>
  <dc:title>KidPix</dc:title>
</cp:coreProperties>
</file>